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E8D-EDC1-4B9B-8DB6-BD09B1DA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01F-DEE0-4891-A797-4AA7354E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EA7-098C-4AB8-B34D-B6BED714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728-9347-4434-B1ED-9C7CE59E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2B60-9BB2-4D4A-A096-5A6EA52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A3D4-7111-451B-ACC5-139A5E7E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C9D-C587-4545-AC4C-D0CDD2C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08C9-41C5-44B6-9457-82D8428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2608-3265-44A6-BD17-5E8D403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741-9B83-492C-9C2B-14317F0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47FB-4F49-479C-982A-C8F59C1D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E65-4524-48C3-82EA-7D8E91D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1ED6-F9EB-4C2F-97E0-F6B25B08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DD9-B331-4829-9A73-3ED77DA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01E-2477-4F69-BE58-C2BE5AF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6242-B236-4154-81C5-BBD41A4B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9F3E-6554-4846-8B99-C6097BCC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4BA-20C8-4912-A922-54EFB6FB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57A-025C-4C74-A584-29925E5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8D8-3881-4B49-8811-6CF71D5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49E-7D88-4143-8447-FA27A82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A12-4A65-44AA-8DB5-17C6D55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50C-3D4A-4282-96CD-2A1A78B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E1F-F088-49D0-A8E7-EB41EF4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8095-3F78-43B8-BABD-2360C9C3081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E59-469D-4BD9-99A6-5202A227F76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733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The strange story of:</a:t>
            </a:r>
            <a:br>
              <a:rPr sz="4000"/>
            </a:b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7.5 </a:t>
            </a: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1.2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914400"/>
            <a:ext cx="6172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Dividing by a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9964"/>
                </a:solidFill>
                <a:latin typeface="Times New Roman"/>
              </a:rPr>
              <a:t>Decimal Numb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8800" y="838080"/>
            <a:ext cx="58672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e up with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ICK ESTIMAT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7.5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1.25  looks like it will be close to</a:t>
            </a:r>
            <a:br>
              <a:rPr sz="24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7 </a:t>
            </a: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which would equal just 37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… we will be looking for an answer around 37 and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REJEC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an answer of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00-something or 3-somethi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534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335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37.5 </a:t>
            </a:r>
            <a:r>
              <a:rPr b="0" lang="en-US" sz="4000" spc="-1" strike="noStrike">
                <a:solidFill>
                  <a:srgbClr val="cd3333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1.2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09680" y="2819160"/>
            <a:ext cx="3353040" cy="1066680"/>
            <a:chOff x="2209680" y="2819160"/>
            <a:chExt cx="3353040" cy="1066680"/>
          </a:xfrm>
        </p:grpSpPr>
        <p:sp>
          <p:nvSpPr>
            <p:cNvPr id="94" name=""/>
            <p:cNvSpPr/>
            <p:nvPr/>
          </p:nvSpPr>
          <p:spPr>
            <a:xfrm>
              <a:off x="3581280" y="297180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3 7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9680" y="29718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1 2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505320" y="2819160"/>
              <a:ext cx="2057400" cy="1066680"/>
              <a:chOff x="3505320" y="2819160"/>
              <a:chExt cx="2057400" cy="106668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3505320" y="2819160"/>
                <a:ext cx="76320" cy="106668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81640" y="2819520"/>
                <a:ext cx="1981080" cy="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590920" y="34290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19320" y="4054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solve this problem using the “paper and pencil” procedure we would set it up like THI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137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T… the regular division procedure does not work comfortably with decimal divisors… what can we do 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380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9964"/>
                </a:solidFill>
                <a:latin typeface="Times New Roman"/>
              </a:rPr>
              <a:t>37.5 </a:t>
            </a:r>
            <a:r>
              <a:rPr b="0" lang="en-US" sz="4000" spc="-1" strike="noStrike">
                <a:solidFill>
                  <a:srgbClr val="ce9964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ce9964"/>
                </a:solidFill>
                <a:latin typeface="Times New Roman"/>
              </a:rPr>
              <a:t> 1.2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09680" y="2819160"/>
            <a:ext cx="3353040" cy="1066680"/>
            <a:chOff x="2209680" y="2819160"/>
            <a:chExt cx="3353040" cy="1066680"/>
          </a:xfrm>
        </p:grpSpPr>
        <p:sp>
          <p:nvSpPr>
            <p:cNvPr id="105" name=""/>
            <p:cNvSpPr/>
            <p:nvPr/>
          </p:nvSpPr>
          <p:spPr>
            <a:xfrm>
              <a:off x="3581280" y="297180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3 7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29718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1 2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505320" y="2819160"/>
              <a:ext cx="2057400" cy="1066680"/>
              <a:chOff x="3505320" y="2819160"/>
              <a:chExt cx="2057400" cy="106668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3505320" y="2819160"/>
                <a:ext cx="76320" cy="106668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81640" y="2819520"/>
                <a:ext cx="1981080" cy="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97180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060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3505320"/>
              <a:ext cx="380880" cy="317520"/>
            </a:xfrm>
            <a:custGeom>
              <a:avLst/>
              <a:gdLst/>
              <a:ahLst/>
              <a:rect l="l" t="t" r="r" b="b"/>
              <a:pathLst>
                <a:path w="240" h="200">
                  <a:moveTo>
                    <a:pt x="0" y="0"/>
                  </a:moveTo>
                  <a:cubicBezTo>
                    <a:pt x="28" y="92"/>
                    <a:pt x="56" y="184"/>
                    <a:pt x="96" y="192"/>
                  </a:cubicBezTo>
                  <a:cubicBezTo>
                    <a:pt x="136" y="200"/>
                    <a:pt x="188" y="124"/>
                    <a:pt x="240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3505320"/>
              <a:ext cx="380880" cy="317520"/>
            </a:xfrm>
            <a:custGeom>
              <a:avLst/>
              <a:gdLst/>
              <a:ahLst/>
              <a:rect l="l" t="t" r="r" b="b"/>
              <a:pathLst>
                <a:path w="240" h="200">
                  <a:moveTo>
                    <a:pt x="0" y="0"/>
                  </a:moveTo>
                  <a:cubicBezTo>
                    <a:pt x="28" y="92"/>
                    <a:pt x="56" y="184"/>
                    <a:pt x="96" y="192"/>
                  </a:cubicBezTo>
                  <a:cubicBezTo>
                    <a:pt x="136" y="200"/>
                    <a:pt x="188" y="124"/>
                    <a:pt x="240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219320" y="9144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ll give the same answer as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75 </a:t>
            </a: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12.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05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since we multiplied BOTH Dividend and Divisor by 10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we can do this multiplication by moving the </a:t>
            </a: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decimal poin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one place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534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6504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nd 375 </a:t>
            </a: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12.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09680" y="2819160"/>
            <a:ext cx="3353040" cy="1066680"/>
            <a:chOff x="2209680" y="2819160"/>
            <a:chExt cx="3353040" cy="1066680"/>
          </a:xfrm>
        </p:grpSpPr>
        <p:sp>
          <p:nvSpPr>
            <p:cNvPr id="120" name=""/>
            <p:cNvSpPr/>
            <p:nvPr/>
          </p:nvSpPr>
          <p:spPr>
            <a:xfrm>
              <a:off x="3581280" y="297180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3 7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29718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2000"/>
                  </a:solidFill>
                  <a:latin typeface="Times New Roman"/>
                </a:rPr>
                <a:t>1 2 5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505320" y="2819160"/>
              <a:ext cx="2057400" cy="1066680"/>
              <a:chOff x="3505320" y="2819160"/>
              <a:chExt cx="2057400" cy="106668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3505320" y="2819160"/>
                <a:ext cx="76320" cy="106668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81640" y="2819520"/>
                <a:ext cx="1981080" cy="0"/>
              </a:xfrm>
              <a:prstGeom prst="line">
                <a:avLst/>
              </a:prstGeom>
              <a:ln w="2844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35268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4290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505320"/>
              <a:ext cx="380880" cy="317520"/>
            </a:xfrm>
            <a:custGeom>
              <a:avLst/>
              <a:gdLst/>
              <a:ahLst/>
              <a:rect l="l" t="t" r="r" b="b"/>
              <a:pathLst>
                <a:path w="240" h="200">
                  <a:moveTo>
                    <a:pt x="0" y="0"/>
                  </a:moveTo>
                  <a:cubicBezTo>
                    <a:pt x="28" y="92"/>
                    <a:pt x="56" y="184"/>
                    <a:pt x="96" y="192"/>
                  </a:cubicBezTo>
                  <a:cubicBezTo>
                    <a:pt x="136" y="200"/>
                    <a:pt x="188" y="124"/>
                    <a:pt x="240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24280" y="3505320"/>
              <a:ext cx="381240" cy="317520"/>
            </a:xfrm>
            <a:custGeom>
              <a:avLst/>
              <a:gdLst/>
              <a:ahLst/>
              <a:rect l="l" t="t" r="r" b="b"/>
              <a:pathLst>
                <a:path w="240" h="200">
                  <a:moveTo>
                    <a:pt x="0" y="0"/>
                  </a:moveTo>
                  <a:cubicBezTo>
                    <a:pt x="28" y="92"/>
                    <a:pt x="56" y="184"/>
                    <a:pt x="96" y="192"/>
                  </a:cubicBezTo>
                  <a:cubicBezTo>
                    <a:pt x="136" y="200"/>
                    <a:pt x="188" y="124"/>
                    <a:pt x="240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724280" y="29718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990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ll give the same answer as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750 </a:t>
            </a:r>
            <a:r>
              <a:rPr b="0" lang="en-US" sz="40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12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133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nce we multiplied BOTH Dividend and Divisor by 1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1911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we can do this multiplication by 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oving the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ecimal poin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one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or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place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!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nexing a zero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n the ones plac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3650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d 3750 </a:t>
            </a:r>
            <a:r>
              <a:rPr b="0" lang="en-US" sz="3600" spc="-1" strike="noStrike">
                <a:solidFill>
                  <a:srgbClr val="402000"/>
                </a:solidFill>
                <a:latin typeface="Symbol"/>
                <a:ea typeface="Symbol"/>
              </a:rPr>
              <a:t>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125</a:t>
            </a: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e can solve in the usual way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2971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 7 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971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1 2 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05320" y="2819520"/>
            <a:ext cx="75960" cy="83808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819520"/>
            <a:ext cx="198144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9718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89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 3 7 5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1938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4191120"/>
            <a:ext cx="2057400" cy="0"/>
          </a:xfrm>
          <a:prstGeom prst="line">
            <a:avLst/>
          </a:prstGeom>
          <a:ln w="57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114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00:07:20Z</dcterms:created>
  <dc:creator>Daryl Anderson</dc:creator>
  <dc:description/>
  <dc:language>en-US</dc:language>
  <cp:lastModifiedBy>Trumansburg</cp:lastModifiedBy>
  <dcterms:modified xsi:type="dcterms:W3CDTF">2000-01-04T21:38:53Z</dcterms:modified>
  <cp:revision>6</cp:revision>
  <dc:subject/>
  <dc:title>No Slide Title</dc:title>
</cp:coreProperties>
</file>